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D17-7934-4B9C-87E6-0E4AF085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D72-A179-4B4C-8AD6-CECA07B8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9E3E4A-A834-4063-91A5-052A7624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CAC6E-6568-4E63-965B-74984B6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2DA75-1B1F-4BAD-96FA-B7592D53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AC71E5-25DA-44E7-AD31-31EC1D2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8B3C7-5604-4888-ABDF-DBA55DB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124F06-A8E4-4E43-A9A9-9CB5926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64250-A784-4B11-9749-CEE0E14B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41F89-B09F-4D8B-A8CC-1AF2BC72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1C378-A88C-4CAB-BAD9-B30B6111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54C48-B60E-468D-A6B7-AEF68359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E77-93D7-41D6-99FE-B720356C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0C138-2272-4FDB-87D3-995C05B4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73E4F-CE60-46BD-86F4-03AA8DE5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9D6BD-BD1D-46AD-A328-0765B95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22BD09-3052-422D-84FD-F165815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4D8FF1-8C6E-4ACF-AA18-0C8E9EB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4AFB56-7103-4E28-998C-F769D26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45BFF6-FC88-45DC-8F6F-172C981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D87FB-55CB-44FD-9F01-810BE69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43DAAC-8AA0-4E56-B8F2-B8BD0FB3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F2F33C-200F-4DD0-B9C4-BCE6B282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E3C-8667-4993-B86A-C0B0D610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8E60B9-F98A-42A1-8B7E-370255A5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1BB6-771D-4CF1-AE5C-12364E1B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516C9-21DE-4A2C-A734-4034A45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CB90A-5434-4834-AE19-E3451F90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10496-92D5-4799-9811-836FFD6F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0F182-0EFE-4CE1-8982-71752113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07441-628D-4808-B5DB-4354691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7BC81-5443-42D5-8DC0-7315A13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4328-EAB7-4FDC-B45C-68E10B3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1038E-11A9-42D1-B878-F97B4D7B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94521-CC4D-4DB4-8ED6-A1F26337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0A539-10B9-4D85-9AB1-3830E0B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2C0FF-A534-49F8-A382-0E076A11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801E-B9BF-4C04-A371-6BA18C7A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5C92F-7FFC-4602-AAB8-D5D0B378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618C5-0D1F-442B-8FC5-DD38DB7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0CC8C-0232-4BD9-BEFC-AD11A3DC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054EB-5CB4-4C05-AC76-C78CBD65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5D89F-5891-4DC7-A2BB-05A8B14F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90A4E-651D-4B65-A4AE-5AB0CE3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29DD3-5E4E-4ACB-943B-82F22C73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6CCC8-33D9-4ACF-A9BE-6818A239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0F621-C1A6-48C6-9C49-EB8DBC16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A2D26-DAC9-4B01-B64D-6CF72569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F6C81-6AC1-4492-ACB6-6A54E68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18D5C-94B0-47C4-83B7-7F220DAA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7CB89-6FAC-42B4-A882-76A0017D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6FA9F-ADF7-4A3E-9B6C-8BE67FE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C5532-9CE9-4033-8498-C03E90C0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60B9F-14AB-4EA2-8CE7-C0E0428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BF859-F4EE-4A73-ADD6-2996B70C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2DEC2-591F-4246-98B8-20F9BE2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865-EE0D-4826-A8A0-2BBF9DE3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4B313-6568-4E6D-82BF-BEA0580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6E43-900B-43CD-8341-3ED4890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7475-6B52-4930-AE51-DE826303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A3DE4-3C9B-45FA-9A3B-BE696CB2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8BEF4-4BC5-478C-9DEE-9EA8DADA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D59A1-BF6E-4D80-B02E-B34899C3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BD0CC-BE62-4049-9756-F8A8C227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F3728-D7BE-4BE4-908A-6C16246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38215-DE6B-4746-A4F0-F8658706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E98FE-61DC-40FC-BE11-A7EED2BB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CBE-A15D-4C3F-B7FF-FB216D2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15B66-B896-40E8-830A-DC9D3EA5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723EE-F0BF-4299-93FE-D82D95C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09337-7158-4618-88AA-38DBEBE1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0ABA9-DD88-439C-AEB2-7DCE09C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D35CC-2C0C-4057-81B0-9907C157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E25A2-368B-48E1-9ABE-AB09765E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59791-AA81-4E5D-85A8-B878280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64F7D-0D3E-4A01-95DB-5E8D2EE7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B759B-E112-438C-BE12-3C7CEA57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1F14A-D689-4801-BDFA-4B815F27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CB7-2DBB-4297-9CC7-0D6C66DD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652D9-9965-468C-A5BD-BE0E10EF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22489-A8F3-4902-B0EE-5B5F2BEE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08367-E1D3-4F5A-A18D-EEA2CE6D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2DA68-6B68-4B03-9BE7-7CAE958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CEAD9-C658-4692-AD89-1B67E2B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A2A1A-03BE-4421-B885-A9EB369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0BB5F-6A36-4CED-A8B3-17E8243F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AA8E9-F30C-44BD-957C-D8A8E909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647FF-3AEA-4054-9214-100B6E3F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44E22-4A13-496F-A3C1-9078A560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F81-F453-4F11-A461-378498F3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7E372-098F-4D69-AC86-4808068B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F63B3-D1C1-45A6-AF08-E4B34ED1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E1314-985D-4509-B7CC-7423A8E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37820-CD18-49C0-B86F-83F98482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8BF4D-C351-48A5-A977-8603EE9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6DA71-595D-42E7-928E-9B34611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8C7E8-C53E-44E5-8722-FEDB75D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5EC6C-470F-4041-8072-4F598F8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93687-22C5-46EB-B9B3-0504947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A5875-1145-4D97-891F-98485776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B9B-52C1-4B6E-B45E-A528025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3031A-C50F-4571-AE9C-A47B02D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7FE03-69DD-4BA4-BFC3-3B964480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2FE41-CC01-40A8-9104-96DA1791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C118E-6C6F-452E-AEF2-7BAF341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12B20-E45D-4FBC-A8E9-88504CBF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692DF-BFD1-4380-BAEC-1CE10714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1B77F-5108-43B1-A2B7-3CD59C1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C60C3-A0DF-488C-AE95-977E193D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DDC10-9041-42FB-AA29-B08B644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23EE6-8585-4DC1-9062-F2A369A3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506-58C1-499C-91D4-AD361F6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639D5-FDAD-4616-99F4-0D9FFC3D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E4B20-E29A-4B89-83A6-192AD41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30034-9C95-46F1-9D7B-919F9D1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4397E-AF49-47C4-AF11-6082E26A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7D498-52AA-4E35-B7C3-C87FAAA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1BD65-397D-490E-B058-E11FDD6D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157E0-BD27-401F-81DB-13E9BAC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1171D-576E-4BF7-8050-8E96A6B8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A7352-021F-4B56-A825-C4EBEA44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1ED8B-BC6C-4811-A9D1-C05B135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079-3382-45FF-9A1F-7542161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9B631-0A2F-40F1-97CB-7B3B138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19EF0-362C-4A08-BF50-5BE5E28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3B0D0-E6BF-4941-9BC4-CD0919A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552C0-6466-4B8A-A03F-7C260588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8EFC8-0C1C-41BC-9A14-68D41D6E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D21AE-FB92-4EFC-9A05-7D9C187F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02CE5-21AE-4607-B84F-2E8F6EB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694D1-C602-4982-9B17-B8C15998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7AD12-3B29-4EC5-B95A-97F0898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E27CC5-749E-4670-97E9-794C6A58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A09-595B-49ED-9B7D-511A178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77CDE-7F03-4C57-A25A-4841A33E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32B39-3105-45B3-BB4B-DC48AD3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94BF4-2CAD-452D-9D64-1EC3B28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87D08-8FA2-4B9B-8387-9ADB022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9A77AA-C404-45C9-96B7-FCF78334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B6F820-90AE-4E1B-9392-91DB3F4E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A48EB-627C-4056-8C04-C9497092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780D8-FABC-4CE0-9BD2-3B6B9554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58217-199C-4813-B21F-890A42F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18910-E646-4A14-9D3B-6888E096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29A-F511-419A-9564-78D025F051E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85B6-65FD-4255-874E-F45C2BDAD96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D92-2DCA-47C1-9EA9-4F021D6A986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B85D-21C9-4603-B6C1-221EFFAE1EF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4AD-0478-477D-A5D3-1A717E03828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915F-90EB-490A-8693-CE895732834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5A0-0FF7-4E43-AEDD-D4DFAF39BB5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C322-964E-43C3-96ED-BD71FA4092C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DBB0-689D-4D83-9BF8-0B6D8F57B05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D1D0-1DC3-4121-A12B-D4169D45955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868-1B2A-47B8-AB18-282C268F4D0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DDE-434E-4D03-B44E-FDEF77C943B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52440" y="2895480"/>
            <a:ext cx="45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.1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Y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52440" y="456840"/>
            <a:ext cx="76802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rbel"/>
              </a:rPr>
              <a:t>Los Apuntes</a:t>
            </a:r>
            <a:r>
              <a:rPr b="1" lang="en-US" sz="5400" spc="-1" strike="noStrike">
                <a:solidFill>
                  <a:srgbClr val="ff3399"/>
                </a:solidFill>
                <a:latin typeface="Corbel"/>
              </a:rPr>
              <a:t>:</a:t>
            </a:r>
            <a:r>
              <a:rPr b="1" lang="en-US" sz="5400" spc="-1" strike="noStrike">
                <a:solidFill>
                  <a:srgbClr val="00b0f0"/>
                </a:solidFill>
                <a:latin typeface="Corbel"/>
              </a:rPr>
              <a:t> Possessive Adjectives </a:t>
            </a:r>
            <a:r>
              <a:rPr b="1" lang="en-US" sz="5400" spc="-1" strike="noStrike">
                <a:solidFill>
                  <a:srgbClr val="ff3399"/>
                </a:solidFill>
                <a:latin typeface="Corbel"/>
              </a:rPr>
              <a:t>&amp;</a:t>
            </a:r>
            <a:r>
              <a:rPr b="1" lang="en-US" sz="5400" spc="-1" strike="noStrike">
                <a:solidFill>
                  <a:srgbClr val="00b0f0"/>
                </a:solidFill>
                <a:latin typeface="Corbel"/>
              </a:rPr>
              <a:t> Pronou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are the possessive adjectives you already know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Adjectives – </a:t>
            </a:r>
            <a:r>
              <a:rPr b="0" lang="en-US" sz="4000" spc="-1" strike="noStrike">
                <a:solidFill>
                  <a:srgbClr val="00b050"/>
                </a:solidFill>
                <a:latin typeface="Corbel"/>
              </a:rPr>
              <a:t>Short for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04920" y="2743200"/>
          <a:ext cx="8610480" cy="28195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i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uestro(s) / N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u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Your (familiar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Vuestro(s) / V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All of your (familia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His, her, its, your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Their, all of your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52440" y="1371240"/>
            <a:ext cx="8182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do we have possessive adjectives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o tell you who owns somet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o describe a relationship between people or thing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y dad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15960" indent="-4478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Mi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pad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. Your (familiar) great-grandfath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15960" indent="-4478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Tu 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bisabuel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. Our toy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15960" indent="-4478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Nuestros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jugue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Adjectives – </a:t>
            </a:r>
            <a:r>
              <a:rPr b="0" lang="en-US" sz="4000" spc="-1" strike="noStrike">
                <a:solidFill>
                  <a:srgbClr val="00b050"/>
                </a:solidFill>
                <a:latin typeface="Corbel"/>
              </a:rPr>
              <a:t>Short for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TextBox 3"/>
          <p:cNvSpPr/>
          <p:nvPr/>
        </p:nvSpPr>
        <p:spPr>
          <a:xfrm rot="416400">
            <a:off x="5363640" y="3440160"/>
            <a:ext cx="334944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  <a:ea typeface="Arial"/>
              </a:rPr>
              <a:t>¡Ten Cuidado!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Possessive adjectives agree in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gend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numb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with the noun they describe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does the long form of possessive adjectives differ from the short form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It is more express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The long form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FOLLOWS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the nou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are the possessive adjectives (Long for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Adjectives – </a:t>
            </a:r>
            <a:r>
              <a:rPr b="0" lang="en-US" sz="4000" spc="-1" strike="noStrike">
                <a:solidFill>
                  <a:srgbClr val="00b050"/>
                </a:solidFill>
                <a:latin typeface="Corbel"/>
              </a:rPr>
              <a:t>Long form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380880" y="3886200"/>
          <a:ext cx="8382240" cy="259092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ío(s) / Mí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uestro(s) / N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uyo(s) / Tuy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 Yours (familiar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Vuestro(s) / V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all of yours (familia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yo(s) / Suy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His, her, its, your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yo(s) / Suy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theirs, all of you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. The marionette of m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La marioneta mí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. The toy of he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l juguete suyo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. The friends (f) of ou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Las amigas nuestr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4. The dolls of thei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Las muñecas suya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The paper of you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l papel tuy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La Prác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TextBox 3"/>
          <p:cNvSpPr/>
          <p:nvPr/>
        </p:nvSpPr>
        <p:spPr>
          <a:xfrm rot="416400">
            <a:off x="4982400" y="2325960"/>
            <a:ext cx="334980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  <a:ea typeface="Arial"/>
              </a:rPr>
              <a:t>¡Ten Cuidado!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Possessive adjectives agree in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gend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numb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with the </a:t>
            </a:r>
            <a:r>
              <a:rPr b="1" lang="en-US" sz="2400" spc="-1" strike="noStrike">
                <a:solidFill>
                  <a:srgbClr val="00b050"/>
                </a:solidFill>
                <a:latin typeface="Corbel"/>
                <a:ea typeface="Arial"/>
              </a:rPr>
              <a:t>NOUN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 they describe!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50" autoRev="1" fill="remov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92934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remov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2934"/>
                                      </p:to>
                                    </p:animClr>
                                    <p:set>
                                      <p:cBhvr>
                                        <p:cTn id="164" dur="250" autoRev="1" fill="remov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52440" y="1463400"/>
            <a:ext cx="81057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are possessive pronouns  forme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Use </a:t>
            </a:r>
            <a:r>
              <a:rPr b="0" lang="en-US" sz="2400" spc="-1" strike="noStrike">
                <a:solidFill>
                  <a:srgbClr val="92d050"/>
                </a:solidFill>
                <a:latin typeface="Corbel"/>
              </a:rPr>
              <a:t>the long form 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of the possessive adjec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dd 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el, la, los, las 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ccording to the gender and number of the </a:t>
            </a:r>
            <a:r>
              <a:rPr b="0" lang="en-US" sz="2400" spc="-1" strike="noStrike">
                <a:solidFill>
                  <a:srgbClr val="00b0f0"/>
                </a:solidFill>
                <a:latin typeface="Corbel"/>
              </a:rPr>
              <a:t>noun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it replac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have my notes, not your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 tengo mis </a:t>
            </a:r>
            <a:r>
              <a:rPr b="0" lang="en-US" sz="2400" spc="-1" strike="noStrike">
                <a:solidFill>
                  <a:srgbClr val="00b0f0"/>
                </a:solidFill>
                <a:latin typeface="Corbel"/>
              </a:rPr>
              <a:t>apunte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no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los </a:t>
            </a:r>
            <a:r>
              <a:rPr b="0" lang="en-US" sz="2400" spc="-1" strike="noStrike">
                <a:solidFill>
                  <a:srgbClr val="92d050"/>
                </a:solidFill>
                <a:latin typeface="Corbel"/>
              </a:rPr>
              <a:t>tuyo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Our house is big and yours is small.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uestra </a:t>
            </a:r>
            <a:r>
              <a:rPr b="0" lang="en-US" sz="2400" spc="-1" strike="noStrike">
                <a:solidFill>
                  <a:srgbClr val="00b0f0"/>
                </a:solidFill>
                <a:latin typeface="Corbel"/>
              </a:rPr>
              <a:t>cas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es grande y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Corbel"/>
              </a:rPr>
              <a:t>tuya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 pequeña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Pronouns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52440" y="1295280"/>
            <a:ext cx="7680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. Our dog is bigger (more big) than h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Nuestro perro es más grande que el suy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 She wants her toys, not mine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rbel"/>
              </a:rPr>
              <a:t>Ella quiere sus juguetes, no los mí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. My nephew is six (has six years). And yours, how old is he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Mi sobrino tiene seis años. Y el tuyo, ¿cuántos años tien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Their friends are tall and ours are shor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Sus amigos son altos y los nuestros son baj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La Práctica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4:39:22Z</dcterms:created>
  <dc:creator>Heffernen, Heather</dc:creator>
  <dc:description/>
  <dc:language>en-US</dc:language>
  <cp:lastModifiedBy>Prine, Stephanie</cp:lastModifiedBy>
  <dcterms:modified xsi:type="dcterms:W3CDTF">2016-02-10T20:27:56Z</dcterms:modified>
  <cp:revision>25</cp:revision>
  <dc:subject/>
  <dc:title>Los Apuntes: Possessive Adjectives &amp; Pronouns</dc:title>
</cp:coreProperties>
</file>